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6.jpeg" ContentType="image/jpeg"/>
  <Override PartName="/ppt/media/image18.wmf" ContentType="image/x-wmf"/>
  <Override PartName="/ppt/media/image20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3.wmf" ContentType="image/x-wmf"/>
  <Override PartName="/ppt/media/image5.png" ContentType="image/png"/>
  <Override PartName="/ppt/media/image29.jpeg" ContentType="image/jpeg"/>
  <Override PartName="/ppt/media/image35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0.jpeg" ContentType="image/jpeg"/>
  <Override PartName="/ppt/media/image37.wmf" ContentType="image/x-wmf"/>
  <Override PartName="/ppt/media/image34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4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41.png" ContentType="image/png"/>
  <Override PartName="/ppt/media/image12.wmf" ContentType="image/x-wmf"/>
  <Override PartName="/ppt/media/image27.png" ContentType="image/png"/>
  <Override PartName="/ppt/media/image6.wmf" ContentType="image/x-wmf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0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14360" y="97106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1578F73-794F-4FEB-B1A0-E10014B421E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7760" y="4856040"/>
            <a:ext cx="567036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5927-9A89-420A-A6FB-CC5B9BE32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64814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4063680"/>
            <a:ext cx="64814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12C3-5050-46BF-8769-05BEB04CF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45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C3FA-0BD6-4D92-8735-E475C9CE6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15680" y="18442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07360" y="18442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40636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15680" y="40636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707360" y="40636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7820-8F97-437A-8285-1F89DC3D3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64814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648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5759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64814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5D37-AFBF-43CC-80D6-70F758B8B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45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4000" y="4063680"/>
            <a:ext cx="64814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64814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000" y="4063680"/>
            <a:ext cx="64814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645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15680" y="18442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7360" y="18442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4000" y="40636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515680" y="40636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707360" y="4063680"/>
            <a:ext cx="208692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648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00FF-E386-4D78-B4E2-56AA904F1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FBDE-ED55-4DBA-B76D-5CBF6A853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C6D8-96DB-477B-AD1E-7431DCBA4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5759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C7D1-0691-4675-B19A-39735DEE2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D580-C63A-4DB8-9210-2CA08FD7E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45000" y="40636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8048-ADD5-4DE2-B62A-513ECAF26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5000" y="1844280"/>
            <a:ext cx="316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4063680"/>
            <a:ext cx="64814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7611-40BD-4206-B9E7-E5C1BA49E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190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0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844280"/>
            <a:ext cx="648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-268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68200" indent="-268200">
              <a:spcBef>
                <a:spcPts val="601"/>
              </a:spcBef>
              <a:buClr>
                <a:srgbClr val="0060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68200" indent="-268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68200" indent="-268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68200" indent="-268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68200" indent="-268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4000" y="623700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60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60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4360" y="6453360"/>
            <a:ext cx="503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518a2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27F-7F9D-4B79-B1FA-0ED20261719C}" type="slidenum">
              <a:rPr b="0" lang="cs-CZ" sz="1400" spc="-1" strike="noStrike">
                <a:solidFill>
                  <a:srgbClr val="518a2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solidFill>
            <a:srgbClr val="518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50920" y="549360"/>
            <a:ext cx="100656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570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133720"/>
            <a:ext cx="52560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0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971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060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609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solidFill>
            <a:srgbClr val="518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47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algn="ctr">
              <a:spcBef>
                <a:spcPts val="601"/>
              </a:spcBef>
              <a:buClr>
                <a:srgbClr val="0060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5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44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0.png"/><Relationship Id="rId11" Type="http://schemas.openxmlformats.org/officeDocument/2006/relationships/image" Target="../media/image21.wmf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6.jpe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6.jpeg"/><Relationship Id="rId8" Type="http://schemas.openxmlformats.org/officeDocument/2006/relationships/image" Target="../media/image23.png"/><Relationship Id="rId9" Type="http://schemas.openxmlformats.org/officeDocument/2006/relationships/image" Target="../media/image9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6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36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6.jpeg"/><Relationship Id="rId7" Type="http://schemas.openxmlformats.org/officeDocument/2006/relationships/image" Target="../media/image23.png"/><Relationship Id="rId8" Type="http://schemas.openxmlformats.org/officeDocument/2006/relationships/image" Target="../media/image9.jpe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image" Target="../media/image17.jpeg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573000"/>
            <a:ext cx="5688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096"/>
                </a:solidFill>
                <a:latin typeface="Arial Black"/>
              </a:rPr>
              <a:t>BTL </a:t>
            </a:r>
            <a:r>
              <a:rPr b="0" lang="ru-RU" sz="3200" spc="-1" strike="noStrike">
                <a:solidFill>
                  <a:srgbClr val="006096"/>
                </a:solidFill>
                <a:latin typeface="Arial Black"/>
              </a:rPr>
              <a:t>Ударно-Волновая Терапия</a:t>
            </a:r>
            <a:endParaRPr b="0" lang="en-US" sz="3200" spc="-1" strike="noStrike">
              <a:solidFill>
                <a:srgbClr val="006096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3348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4240" y="0"/>
            <a:ext cx="20588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0" r="0" b="525"/>
          <a:stretch/>
        </p:blipFill>
        <p:spPr>
          <a:xfrm>
            <a:off x="5076720" y="0"/>
            <a:ext cx="20592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66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096"/>
                </a:solidFill>
                <a:latin typeface="Arial Black"/>
              </a:rPr>
              <a:t>BTL </a:t>
            </a: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УДАРНО-ВОЛНОВАЯ ТЕРАПИЯ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16360" y="936720"/>
            <a:ext cx="4146480" cy="5877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2637000"/>
            <a:ext cx="4824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e1e08"/>
                </a:solidFill>
                <a:latin typeface="Arial Black"/>
              </a:rPr>
              <a:t>BTL</a:t>
            </a:r>
            <a:r>
              <a:rPr b="0" lang="en-GB" sz="2800" spc="-1" strike="noStrike">
                <a:solidFill>
                  <a:srgbClr val="8e1e08"/>
                </a:solidFill>
                <a:latin typeface="Arial Black"/>
              </a:rPr>
              <a:t>- 5000 SWT Basic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8e1e08"/>
                </a:solidFill>
                <a:latin typeface="Arial Black"/>
              </a:rPr>
              <a:t>BTL-5000 SW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B1CD-1C6B-4C91-AB99-7A50A3B024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096"/>
                </a:solidFill>
                <a:latin typeface="Arial Black"/>
              </a:rPr>
              <a:t>ГЛАВНЫЕ ХАРАКТЕРИСТИКИ</a:t>
            </a:r>
            <a:br>
              <a:rPr sz="2800"/>
            </a:b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6913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a2c"/>
                </a:solidFill>
                <a:latin typeface="Arial"/>
              </a:rPr>
              <a:t>BTL-5000 SW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2f0c"/>
                </a:solidFill>
                <a:latin typeface="Arial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экономическ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ление до 3 б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тота до 15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” цветной сенсорный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a2c"/>
                </a:solidFill>
                <a:latin typeface="Arial"/>
              </a:rPr>
              <a:t>BTL-5000 SWT </a:t>
            </a:r>
            <a:r>
              <a:rPr b="1" lang="en-US" sz="1800" spc="-1" strike="noStrike">
                <a:solidFill>
                  <a:srgbClr val="de2f0c"/>
                </a:solidFill>
                <a:latin typeface="Arial"/>
              </a:rPr>
              <a:t>POW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мощ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но-волнов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ппар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е давление до 5 б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ая частота до 22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кетный режим для особо чувстви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ц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4” цветной сенсорный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ная терапевтическая энциклопедия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томическими изображ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00"/>
              </a:spcBef>
              <a:buSzPct val="1372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ульная система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последующю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рнизацию другими модулями физиотерап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ьтразву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зер и магн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300720" y="1628640"/>
            <a:ext cx="701640" cy="1084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5796000" y="3573360"/>
            <a:ext cx="1278000" cy="1627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 rot="21112200">
            <a:off x="5435640" y="2205000"/>
            <a:ext cx="804960" cy="5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22C1-9A2B-443D-98D9-507721DB5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575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ТЕХНИЧЕСКИЕ ПАРАМЕТРЫ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0920" y="907920"/>
          <a:ext cx="6842160" cy="5581800"/>
        </p:xfrm>
        <a:graphic>
          <a:graphicData uri="http://schemas.openxmlformats.org/drawingml/2006/table">
            <a:tbl>
              <a:tblPr/>
              <a:tblGrid>
                <a:gridCol w="3025800"/>
                <a:gridCol w="1896840"/>
                <a:gridCol w="1919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L-5000 SWT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L-5000 SWT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´´ цветной сенсорный экр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4´´ цветной сенсорный экр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3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5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5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2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инар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реж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оянный реж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ный реж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нциклопе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нциклопедия с анатомическими иллюстрац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зы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рнизация электротерап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рн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удьтразву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рн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азе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рн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агнитотерап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й аппликатор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ы - основной бл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 x 390 x 260 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ы - воздушный компресс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 x  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x 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 основного блока бeз аксессуарo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 – 5.3 k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 воздушного компресс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82840" cy="230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24000" y="2492280"/>
            <a:ext cx="571680" cy="225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24000" y="2239920"/>
            <a:ext cx="582840" cy="230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6453360"/>
            <a:ext cx="691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001TOT-Regu"/>
              </a:rPr>
              <a:t>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U001TOT-Regu"/>
              </a:rPr>
              <a:t>*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воляет соединение 2 апплик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5C06-62CE-4277-8DEF-8B8F7C3AC4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568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640" y="260280"/>
            <a:ext cx="40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096"/>
                </a:solidFill>
                <a:latin typeface="Arial Black"/>
              </a:rPr>
              <a:t>АКСЕССУАРЫ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52720" y="1052280"/>
            <a:ext cx="9072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1e08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de2f0c"/>
                </a:solidFill>
                <a:latin typeface="Arial"/>
              </a:rPr>
              <a:t>Стандартные</a:t>
            </a:r>
            <a:r>
              <a:rPr b="1" lang="cs-CZ" sz="2400" spc="-1" strike="noStrike">
                <a:solidFill>
                  <a:srgbClr val="de2f0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блок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шный компрессор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лик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чики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купунктурных пунктов и более точных апплик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альные датчики для всех апплик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кусирующий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олее точных аппликация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ковые точк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ль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нный патрон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яемый пользователе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ально 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лион выстр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1e08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de2f0c"/>
                </a:solidFill>
                <a:latin typeface="Arial"/>
              </a:rPr>
              <a:t>Опциональные</a:t>
            </a:r>
            <a:r>
              <a:rPr b="1" lang="cs-CZ" sz="2400" spc="-1" strike="noStrike">
                <a:solidFill>
                  <a:srgbClr val="de2f0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носная су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жная пе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ьтразвуково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зерны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гнитотерапевтический и Электротерапевтический модул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WT Pow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Unique modularity"/>
          <p:cNvPicPr/>
          <p:nvPr/>
        </p:nvPicPr>
        <p:blipFill>
          <a:blip r:embed="rId10"/>
          <a:stretch/>
        </p:blipFill>
        <p:spPr>
          <a:xfrm>
            <a:off x="7164360" y="4005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7596360" y="0"/>
            <a:ext cx="1428480" cy="20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5DCE-3AE3-469D-8822-6D4CBCB0AD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48974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096"/>
                </a:solidFill>
                <a:latin typeface="Arial Black"/>
              </a:rPr>
              <a:t>BTL </a:t>
            </a: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Уникальные Решения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66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6040" indent="-268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8a2c"/>
                </a:solidFill>
                <a:latin typeface="Arial"/>
              </a:rPr>
              <a:t>Модульная система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х физиотерапевтичексих модулей в одном бло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8a2c"/>
                </a:solidFill>
                <a:latin typeface="Arial"/>
              </a:rPr>
              <a:t>Встроенный справочник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с цветными изобра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8a2c"/>
                </a:solidFill>
                <a:latin typeface="Arial"/>
              </a:rPr>
              <a:t>Пакетный режим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увствительных пац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8a2c"/>
                </a:solidFill>
                <a:latin typeface="Arial"/>
              </a:rPr>
              <a:t>Эргономический аппликатор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бная манипуляция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временная эксплуатация апплика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нный патрон которого легко заменяется пользователем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18a2c"/>
                </a:solidFill>
                <a:latin typeface="Arial"/>
              </a:rPr>
              <a:t>Низкие расходы на обслуживание</a:t>
            </a:r>
            <a:r>
              <a:rPr b="1" lang="en-US" sz="2400" spc="-1" strike="noStrike">
                <a:solidFill>
                  <a:srgbClr val="518a2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rcRect l="0" t="0" r="0" b="525"/>
          <a:stretch/>
        </p:blipFill>
        <p:spPr>
          <a:xfrm>
            <a:off x="683568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Unique modularity"/>
          <p:cNvPicPr/>
          <p:nvPr/>
        </p:nvPicPr>
        <p:blipFill>
          <a:blip r:embed="rId7"/>
          <a:stretch/>
        </p:blipFill>
        <p:spPr>
          <a:xfrm>
            <a:off x="6659640" y="4046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7236000" y="3284640"/>
            <a:ext cx="1223640" cy="484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6372360" y="5516640"/>
            <a:ext cx="15127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File name =&quot;W:\Btl_encyclopedy\encyklopedy_png\source\big_color\W 1114_01n.png&quot;&#13;&#10;Original size: Height= 254.85 Width= 146.25"/>
          <p:cNvPicPr/>
          <p:nvPr/>
        </p:nvPicPr>
        <p:blipFill>
          <a:blip r:embed="rId10"/>
          <a:stretch/>
        </p:blipFill>
        <p:spPr>
          <a:xfrm>
            <a:off x="6084720" y="2133720"/>
            <a:ext cx="66204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3AC6-1B10-46FA-93D9-398F3EE788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096"/>
                </a:solidFill>
                <a:latin typeface="Arial Black"/>
              </a:rPr>
              <a:t>Аппликаторы</a:t>
            </a:r>
            <a:endParaRPr b="0" lang="en-US" sz="3200" spc="-1" strike="noStrike">
              <a:solidFill>
                <a:srgbClr val="006096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335240" cy="622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rot="3324600">
            <a:off x="1540440" y="3147120"/>
            <a:ext cx="39610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86440" y="0"/>
            <a:ext cx="20196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096"/>
                </a:solidFill>
                <a:latin typeface="Arial Black"/>
              </a:rPr>
              <a:t>Аппликаторы</a:t>
            </a:r>
            <a:r>
              <a:rPr b="0" lang="cs-CZ" sz="3200" spc="-1" strike="noStrike">
                <a:solidFill>
                  <a:srgbClr val="006096"/>
                </a:solidFill>
                <a:latin typeface="Arial Black"/>
              </a:rPr>
              <a:t> – EMS, STORZ, BTL</a:t>
            </a: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032360" cy="2125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4753080" cy="266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3933720"/>
            <a:ext cx="1942920" cy="13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877080" y="5300640"/>
            <a:ext cx="1942920" cy="1305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076720" y="4005360"/>
            <a:ext cx="1656000" cy="1108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076720" y="5300640"/>
            <a:ext cx="1654200" cy="1106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076720" y="1197000"/>
            <a:ext cx="30974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DDBC-244A-48F7-8A42-2941378D06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324000" y="6237360"/>
            <a:ext cx="2057400" cy="62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0" r="0" b="525"/>
          <a:stretch/>
        </p:blipFill>
        <p:spPr>
          <a:xfrm>
            <a:off x="6835680" y="0"/>
            <a:ext cx="2057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79280" y="907920"/>
          <a:ext cx="8424720" cy="5851800"/>
        </p:xfrm>
        <a:graphic>
          <a:graphicData uri="http://schemas.openxmlformats.org/drawingml/2006/table">
            <a:tbl>
              <a:tblPr/>
              <a:tblGrid>
                <a:gridCol w="1728720"/>
                <a:gridCol w="2952720"/>
                <a:gridCol w="1800360"/>
                <a:gridCol w="1942920"/>
              </a:tblGrid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6096"/>
                          </a:solidFill>
                          <a:latin typeface="Arial"/>
                        </a:rPr>
                        <a:t>BTL-5000 SW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ргоно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ные шоки  на руку пользов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096"/>
                          </a:solidFill>
                          <a:latin typeface="Arial"/>
                        </a:rPr>
                        <a:t>Анти-шоковый воздушный апликатор с амортизато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иконная мягкая рукоя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иконная мягкая рукоя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спен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жение руки по аппликат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096"/>
                          </a:solidFill>
                          <a:latin typeface="Arial"/>
                        </a:rPr>
                        <a:t>Специальная эргономическая рукоя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овате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6096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ен быть послан в сервис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висный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6096"/>
                          </a:solidFill>
                          <a:latin typeface="Arial"/>
                        </a:rPr>
                        <a:t>1 000 000 </a:t>
                      </a:r>
                      <a:r>
                        <a:rPr b="1" lang="ru-RU" sz="1600" spc="-1" strike="noStrike">
                          <a:solidFill>
                            <a:srgbClr val="006096"/>
                          </a:solidFill>
                          <a:latin typeface="Arial"/>
                        </a:rPr>
                        <a:t>выстре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096"/>
                </a:solidFill>
                <a:latin typeface="Arial Black"/>
              </a:rPr>
              <a:t>Решение проблем аппликатора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948360" y="1700280"/>
            <a:ext cx="1441440" cy="60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rcRect l="0" t="0" r="14177" b="-8686"/>
          <a:stretch/>
        </p:blipFill>
        <p:spPr>
          <a:xfrm>
            <a:off x="5076720" y="2924280"/>
            <a:ext cx="136692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0" t="0" r="48165" b="55783"/>
          <a:stretch/>
        </p:blipFill>
        <p:spPr>
          <a:xfrm>
            <a:off x="6877080" y="4581360"/>
            <a:ext cx="1366920" cy="535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5148360" y="1628640"/>
            <a:ext cx="1395360" cy="733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rcRect l="0" t="0" r="50004" b="61966"/>
          <a:stretch/>
        </p:blipFill>
        <p:spPr>
          <a:xfrm>
            <a:off x="5148360" y="4581360"/>
            <a:ext cx="1079280" cy="432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Softhandle"/>
          <p:cNvPicPr/>
          <p:nvPr/>
        </p:nvPicPr>
        <p:blipFill>
          <a:blip r:embed="rId8"/>
          <a:stretch/>
        </p:blipFill>
        <p:spPr>
          <a:xfrm>
            <a:off x="6804000" y="3213000"/>
            <a:ext cx="792360" cy="554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7667640" y="3357720"/>
            <a:ext cx="865080" cy="780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rcRect l="0" t="0" r="83636" b="64324"/>
          <a:stretch/>
        </p:blipFill>
        <p:spPr>
          <a:xfrm>
            <a:off x="6804000" y="357336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rcRect l="6663" t="20619" r="8311" b="34841"/>
          <a:stretch/>
        </p:blipFill>
        <p:spPr>
          <a:xfrm>
            <a:off x="2340000" y="1628640"/>
            <a:ext cx="2087640" cy="731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rcRect l="6663" t="31779" r="76960" b="43692"/>
          <a:stretch/>
        </p:blipFill>
        <p:spPr>
          <a:xfrm>
            <a:off x="2124000" y="321300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rcRect l="6663" t="32113" r="48777" b="43692"/>
          <a:stretch/>
        </p:blipFill>
        <p:spPr>
          <a:xfrm>
            <a:off x="2484360" y="4724280"/>
            <a:ext cx="1584360" cy="574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>
            <a:off x="3276720" y="3213000"/>
            <a:ext cx="1473120" cy="8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DDAA-7F1F-46FA-A943-817168E57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32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Что предоставляет </a:t>
            </a:r>
            <a:r>
              <a:rPr b="0" lang="en-GB" sz="2400" spc="-1" strike="noStrike">
                <a:solidFill>
                  <a:srgbClr val="006096"/>
                </a:solidFill>
                <a:latin typeface="Arial Black"/>
              </a:rPr>
              <a:t>BTL </a:t>
            </a: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Ударно-Волновая Терапия</a:t>
            </a:r>
            <a:r>
              <a:rPr b="0" lang="en-GB" sz="2400" spc="-1" strike="noStrike">
                <a:solidFill>
                  <a:srgbClr val="006096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64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2f0c"/>
                </a:solidFill>
                <a:latin typeface="Arial"/>
              </a:rPr>
              <a:t>Выгоды для терапевта</a:t>
            </a:r>
            <a:r>
              <a:rPr b="1" lang="cs-CZ" sz="2800" spc="-1" strike="noStrike">
                <a:solidFill>
                  <a:srgbClr val="de2f0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и эффектив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н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к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ая и дружественная манип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окупаемость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ежде всего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de2f0c"/>
                </a:solidFill>
                <a:latin typeface="Arial"/>
              </a:rPr>
              <a:t>ДОВОЛЬНЫЕ ПАЦИЕНТЫ</a:t>
            </a:r>
            <a:r>
              <a:rPr b="1" lang="cs-CZ" sz="2400" spc="-1" strike="noStrike">
                <a:solidFill>
                  <a:srgbClr val="de2f0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Unique modularity"/>
          <p:cNvPicPr/>
          <p:nvPr/>
        </p:nvPicPr>
        <p:blipFill>
          <a:blip r:embed="rId6"/>
          <a:stretch/>
        </p:blipFill>
        <p:spPr>
          <a:xfrm>
            <a:off x="5508720" y="30686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5508720" y="3860640"/>
            <a:ext cx="561960" cy="222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156360" y="3573360"/>
            <a:ext cx="792000" cy="43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File name =&quot;W:\Btl_encyclopedy\encyklopedy_png\source\big_color\W 1114_01n.png&quot;&#13;&#10;Original size: Height= 254.85 Width= 146.25"/>
          <p:cNvPicPr/>
          <p:nvPr/>
        </p:nvPicPr>
        <p:blipFill>
          <a:blip r:embed="rId9"/>
          <a:stretch/>
        </p:blipFill>
        <p:spPr>
          <a:xfrm>
            <a:off x="5508720" y="4149720"/>
            <a:ext cx="4539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31D4-6101-48C2-9EEC-990FBF4E9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55640" y="549000"/>
            <a:ext cx="360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096"/>
                </a:solidFill>
                <a:latin typeface="Arial Black"/>
              </a:rPr>
              <a:t>Содержание</a:t>
            </a:r>
            <a:endParaRPr b="0" lang="en-US" sz="32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41672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37200" indent="-238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информация о Ударно-Волновой терап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360" indent="-238680">
              <a:spcBef>
                <a:spcPts val="601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эффекты ударной вол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360" indent="-238680">
              <a:spcBef>
                <a:spcPts val="601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Ударно-Волновой 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-2386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T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рно-Волновая 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360" indent="-238680">
              <a:spcBef>
                <a:spcPts val="601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360" indent="-238680">
              <a:spcBef>
                <a:spcPts val="601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пл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-2386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A680-E08B-43C4-85A2-4B42674E5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5680" y="468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759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096"/>
                </a:solidFill>
                <a:latin typeface="Arial Black"/>
              </a:rPr>
              <a:t>УДАРНАЯ ВОЛНА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41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арная вол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518a2c"/>
                </a:solidFill>
                <a:latin typeface="Arial"/>
              </a:rPr>
              <a:t>акустическая волна,</a:t>
            </a:r>
            <a:r>
              <a:rPr b="0" lang="ru-RU" sz="2400" spc="-1" strike="noStrike">
                <a:solidFill>
                  <a:srgbClr val="518a2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ая несет высокую энергию к болезненному участку и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стимул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518a2c"/>
                </a:solidFill>
                <a:latin typeface="Arial"/>
              </a:rPr>
              <a:t>процес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518a2c"/>
                </a:solidFill>
                <a:latin typeface="Arial"/>
              </a:rPr>
              <a:t>заживлени</a:t>
            </a:r>
            <a:r>
              <a:rPr b="0" lang="ru-RU" sz="2400" spc="-1" strike="noStrike">
                <a:solidFill>
                  <a:srgbClr val="518a2c"/>
                </a:solidFill>
                <a:latin typeface="Arial"/>
              </a:rPr>
              <a:t>я</a:t>
            </a:r>
            <a:r>
              <a:rPr b="0" lang="cs-CZ" sz="2400" spc="-1" strike="noStrike">
                <a:solidFill>
                  <a:srgbClr val="518a2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518a2c"/>
                </a:solidFill>
                <a:latin typeface="Arial"/>
              </a:rPr>
              <a:t>регенерации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cs-CZ" sz="2400" spc="-1" strike="noStrike">
                <a:solidFill>
                  <a:srgbClr val="518a2c"/>
                </a:solidFill>
                <a:latin typeface="Arial"/>
              </a:rPr>
              <a:t> репа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Главные области приме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Реабили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Ортопе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Спортивная 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 области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еринария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говые лошади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тетическая медицина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лечение целю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219640" y="2565360"/>
            <a:ext cx="3168720" cy="17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A998-37EA-4361-B8A8-D089E04D56D4}" type="slidenum">
              <a:t>3</a:t>
            </a:fld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5680" y="468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59280" y="809640"/>
            <a:ext cx="3981600" cy="604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575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096"/>
                </a:solidFill>
                <a:latin typeface="Arial Black"/>
              </a:rPr>
              <a:t>УДАРНАЯ ВОЛНА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741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5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ЦИНСКИЕ ЭФФЕК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840" indent="-2653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2f0c"/>
                </a:solidFill>
                <a:latin typeface="Arial"/>
              </a:rPr>
              <a:t>Болеутоляющий</a:t>
            </a:r>
            <a:r>
              <a:rPr b="1" lang="cs-CZ" sz="2000" spc="-1" strike="noStrike">
                <a:solidFill>
                  <a:srgbClr val="de2f0c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ранени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-265320">
              <a:lnSpc>
                <a:spcPct val="9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личение вымы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бстанции 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осф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-265320">
              <a:lnSpc>
                <a:spcPct val="9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ь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840" indent="-2653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2f0c"/>
                </a:solidFill>
                <a:latin typeface="Arial"/>
              </a:rPr>
              <a:t>Ускорение заживления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-265320">
              <a:lnSpc>
                <a:spcPct val="9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личение выработки колла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-265320">
              <a:lnSpc>
                <a:spcPct val="9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учшенный метабо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кроциркуля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840" indent="-2653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e2f0c"/>
                </a:solidFill>
                <a:latin typeface="Arial"/>
              </a:rPr>
              <a:t>Восстановление подви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1640" indent="-265320">
              <a:lnSpc>
                <a:spcPct val="90000"/>
              </a:lnSpc>
              <a:spcBef>
                <a:spcPts val="499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аспад кальцинирующих фибробл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07B1-BF32-4D33-ACAD-29F563166123}" type="slidenum">
              <a:t>4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26320" y="-11160"/>
            <a:ext cx="2066760" cy="688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096"/>
                </a:solidFill>
                <a:latin typeface="Arial Black"/>
              </a:rPr>
              <a:t>ШИРОКИЙ ДИАПАЗОН АППЛИКАЦИЙ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590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6040" indent="-2682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е состоя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chillodyni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ажение Ахилова сухожи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оль в пахов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ателларная тендинопа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колено прыгу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Болезненное плеч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ursitis trochanteric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 в области тазобедренного суст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 на ладонной стороне запяст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оническое состоя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picondylitis humer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нисный и гольфовый локо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ibial edge syndrom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аление из-за спортивного растя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одошвенный фасцит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зненная пя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зостозы мелких суставов на руке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при артрозе I. степ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268200">
              <a:lnSpc>
                <a:spcPct val="80000"/>
              </a:lnSpc>
              <a:spcBef>
                <a:spcPts val="400"/>
              </a:spcBef>
              <a:buClr>
                <a:srgbClr val="0060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онический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enthesopath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Пусковые точ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оянно сокращенные мышечные обла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упунктурные точки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508720" y="1197000"/>
            <a:ext cx="3384360" cy="52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7236000" y="5300640"/>
            <a:ext cx="645840" cy="2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357336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4437000"/>
            <a:ext cx="86508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67280" y="1052640"/>
            <a:ext cx="43164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8459280" y="1916280"/>
            <a:ext cx="684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2276640"/>
            <a:ext cx="576360" cy="50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51640" y="5013000"/>
            <a:ext cx="86364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96000" y="2781360"/>
            <a:ext cx="431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164360" y="5950080"/>
            <a:ext cx="287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885080" y="3645000"/>
            <a:ext cx="82728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219640" y="2997360"/>
            <a:ext cx="576360" cy="2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F53D-0957-4360-9A9E-70C0AF0B1F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5680" y="-2700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759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УДАРНО-ВОЛНОВАЯ ТЕРАПИЯ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241280"/>
            <a:ext cx="7921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575"/>
              </a:spcBef>
              <a:buSzPct val="1074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овое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518a2c"/>
                </a:solidFill>
                <a:latin typeface="Arial"/>
              </a:rPr>
              <a:t>неинвазивное лечение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оли, связанной с опорно-двигательным аппарато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575"/>
              </a:spcBef>
              <a:buSzPct val="1074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ыстрое и эффективное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518a2c"/>
                </a:solidFill>
                <a:latin typeface="Arial"/>
              </a:rPr>
              <a:t>леч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575"/>
              </a:spcBef>
              <a:buSzPct val="1074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ез анестезии и лекар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18a2c"/>
                </a:solidFill>
                <a:latin typeface="Arial"/>
              </a:rPr>
              <a:t>Без побочных эффе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spcBef>
                <a:spcPts val="575"/>
              </a:spcBef>
              <a:buSzPct val="1074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ечение ударною волной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518a2c"/>
                </a:solidFill>
                <a:latin typeface="Arial"/>
              </a:rPr>
              <a:t>доказано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сятками студий с эфективностью до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2119-55B2-44B1-B832-D219B83AFC3E}" type="slidenum">
              <a:t>6</a:t>
            </a:fld>
          </a:p>
        </p:txBody>
      </p:sp>
    </p:spTree>
  </p:cSld>
  <p:transition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5680" y="-468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0360" y="549000"/>
            <a:ext cx="705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096"/>
                </a:solidFill>
                <a:latin typeface="Arial Black"/>
              </a:rPr>
              <a:t>ТЕХНОЛОГИИ УДАРНО-ВОЛНОВОЙ ТЕРАПИИ</a:t>
            </a:r>
            <a:endParaRPr b="0" lang="en-US" sz="2400" spc="-1" strike="noStrike">
              <a:solidFill>
                <a:srgbClr val="006096"/>
              </a:solidFill>
              <a:latin typeface="Arial Black"/>
            </a:endParaRPr>
          </a:p>
        </p:txBody>
      </p:sp>
      <p:pic>
        <p:nvPicPr>
          <p:cNvPr id="123" name="" descr="methods of generating shockwaves"/>
          <p:cNvPicPr/>
          <p:nvPr/>
        </p:nvPicPr>
        <p:blipFill>
          <a:blip r:embed="rId2"/>
          <a:stretch/>
        </p:blipFill>
        <p:spPr>
          <a:xfrm>
            <a:off x="1042920" y="1773360"/>
            <a:ext cx="7056360" cy="434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27280" y="6381720"/>
            <a:ext cx="576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94ED-F89E-4640-BA84-B7FD7AB90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6834240" y="0"/>
            <a:ext cx="2058840" cy="6864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096"/>
                </a:solidFill>
                <a:latin typeface="Arial Black"/>
              </a:rPr>
              <a:t>ПНЕВМАТИЧЕКАЯ УДАРНАЯ ВОЛНА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8a2c"/>
                </a:solidFill>
                <a:latin typeface="Arial"/>
              </a:rPr>
              <a:t>Принцип</a:t>
            </a:r>
            <a:r>
              <a:rPr b="1" lang="en-GB" sz="2800" spc="-1" strike="noStrike">
                <a:solidFill>
                  <a:srgbClr val="518a2c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de2f0c"/>
                </a:solidFill>
                <a:latin typeface="Arial"/>
              </a:rPr>
              <a:t>радиальный</a:t>
            </a:r>
            <a:r>
              <a:rPr b="1" lang="en-GB" sz="2800" spc="-1" strike="noStrike">
                <a:solidFill>
                  <a:srgbClr val="518a2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ль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енный пневматическим толчком переданный датч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8a2c"/>
                </a:solidFill>
                <a:latin typeface="Arial"/>
              </a:rPr>
              <a:t>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опасное и легкое 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ая цена ап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летие аппликатора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е расходы на обслуживание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строе окупаемость инвест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68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ый фокусирующий датчи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18a2c"/>
                </a:solidFill>
                <a:latin typeface="Arial"/>
              </a:rPr>
              <a:t>Компании использующие данную технолог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ORZ (Gymna), EMS, PAGAN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de2f0c"/>
                </a:solidFill>
                <a:latin typeface="Arial"/>
              </a:rPr>
              <a:t>B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32360" y="2205000"/>
            <a:ext cx="3024360" cy="16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0B32-2A6E-4A19-A052-7D653B5E5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525"/>
          <a:stretch/>
        </p:blipFill>
        <p:spPr>
          <a:xfrm>
            <a:off x="324000" y="5157720"/>
            <a:ext cx="2003400" cy="1490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0" t="0" r="0" b="525"/>
          <a:stretch/>
        </p:blipFill>
        <p:spPr>
          <a:xfrm>
            <a:off x="6905520" y="0"/>
            <a:ext cx="2059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700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096"/>
                </a:solidFill>
                <a:latin typeface="Arial Black"/>
              </a:rPr>
              <a:t>ФОКУСИРУЮЩАЯ УДАРНАЯ ВОЛНА</a:t>
            </a:r>
            <a:endParaRPr b="0" lang="en-US" sz="2800" spc="-1" strike="noStrike">
              <a:solidFill>
                <a:srgbClr val="0060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20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Электрогидравлический принци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епсель искра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д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сп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мкие и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авномерные выст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обслуживани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д только н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00 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ре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нии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2000" spc="-1" strike="noStrike">
                <a:solidFill>
                  <a:srgbClr val="518a2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TS – Orthowave 100                  SwiTech - Evo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Электромагнетический принц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магнетическая спираль и металическая мембрана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колонк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на обслуживание и дорогой аппа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нии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rnier – AR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rz – Duoli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Пьезоэлектический</a:t>
            </a:r>
            <a:r>
              <a:rPr b="1" lang="en-US" sz="2000" spc="-1" strike="noStrike">
                <a:solidFill>
                  <a:srgbClr val="518a2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18a2c"/>
                </a:solidFill>
                <a:latin typeface="Arial"/>
              </a:rPr>
              <a:t>принц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и пьезоэлектических кристалов на сферическ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енький фокусирующий пункт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тяжелый апплик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ании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chard Wolf – Piezowav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iezo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867280" y="981000"/>
            <a:ext cx="1613160" cy="1001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851280" y="2421000"/>
            <a:ext cx="863640" cy="64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7956720" y="2349360"/>
            <a:ext cx="71892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7380360" y="3284640"/>
            <a:ext cx="736560" cy="734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8101080" y="4005360"/>
            <a:ext cx="722160" cy="119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4211640" y="4149720"/>
            <a:ext cx="557280" cy="863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6805440" y="5157720"/>
            <a:ext cx="935280" cy="808200"/>
          </a:xfrm>
          <a:prstGeom prst="rect">
            <a:avLst/>
          </a:prstGeom>
          <a:ln w="0">
            <a:noFill/>
          </a:ln>
        </p:spPr>
      </p:pic>
      <p:pic>
        <p:nvPicPr>
          <p:cNvPr id="140" name="5db8e4be07" descr=""/>
          <p:cNvPicPr/>
          <p:nvPr/>
        </p:nvPicPr>
        <p:blipFill>
          <a:blip r:embed="rId13"/>
          <a:srcRect l="17835" t="0" r="16063" b="63988"/>
          <a:stretch/>
        </p:blipFill>
        <p:spPr>
          <a:xfrm>
            <a:off x="6659640" y="5950080"/>
            <a:ext cx="1008000" cy="733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7740720" y="5950080"/>
            <a:ext cx="1079280" cy="74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L Shockwave therap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4C58-6A01-4F15-8349-A31081A2FA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9:55:10Z</dcterms:created>
  <dc:creator>Pavel Zelenka</dc:creator>
  <dc:description/>
  <dc:language>en-US</dc:language>
  <cp:lastModifiedBy>Eduard</cp:lastModifiedBy>
  <dcterms:modified xsi:type="dcterms:W3CDTF">2010-01-26T10:29:00Z</dcterms:modified>
  <cp:revision>181</cp:revision>
  <dc:subject/>
  <dc:title>Snímek 1</dc:title>
</cp:coreProperties>
</file>